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9AC-7357-412D-B278-3C0D6E25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672-E07E-4A80-B5B2-77FE8193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390-78DE-41A7-8E45-084A0400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FB0-91B6-40AF-BC30-2F37533C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FEDB-0FB3-42A9-9FCB-8EC485B8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48DF-6248-4053-A99A-42438C76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8C17-7498-4D60-B9A4-7CDAE823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158-594E-4B81-B653-4A1FB22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A2B9-1764-43AF-8B02-753B67A4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B493-1C8E-4E40-8998-1C4B41D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F197-3E77-4F33-8874-B7CD5A7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415-9BD6-4CF7-97B2-0087CD0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846-6800-4509-9330-7CEA8E6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E24C-9028-499B-892D-CDDFB05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C94A-D1B8-4B8D-8CFE-10249C5C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8540-E195-45C1-9DCD-F73AA66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4DA-C443-4847-9845-C69A0521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57E-4118-4CB1-A4CE-C7EA5B8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8EA-50CD-43EE-973F-33C5B4B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C58-7668-4066-BED0-51A7F81D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8C7-499F-4164-A389-54F81BD5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336-2F9C-4FE7-817B-E82FACA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9E0-7EBD-4F51-958D-A9594BD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E57-4622-468F-8B44-0CE2030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1EFD-CF52-4CBD-904D-38139B47E9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C989-A49D-43C0-9B74-E99C04187A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5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6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5.jpe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5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792000" y="1125360"/>
            <a:ext cx="5832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Уголовная ответствен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и преступ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WordArt 9"/>
          <p:cNvSpPr txBox="1"/>
          <p:nvPr/>
        </p:nvSpPr>
        <p:spPr>
          <a:xfrm>
            <a:off x="115920" y="3879720"/>
            <a:ext cx="927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29,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.1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2627280" y="692280"/>
            <a:ext cx="3914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покуш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5400" y="1146240"/>
            <a:ext cx="888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окончен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ицо еще не совершало всего того, что хотело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кончен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ицо совершило все, что наметило, но ожида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й результат не наступил по независящим от этого лица об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ятельства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год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покушение, при котором преступный результат н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упил вследствие фактической ошиб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185840" y="3605040"/>
            <a:ext cx="78069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еступление считается оконченным , если в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нном деянии содержатся все признаки состава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пления, предусмотренного законо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81440" y="5194440"/>
            <a:ext cx="88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К предусматривает возможнос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вобождения от уголовн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ственн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, добровольно отказавшихся от за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627280" y="858960"/>
            <a:ext cx="3914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обровольный отказ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96280" y="1517760"/>
            <a:ext cx="84927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амостоятельное принятие лицом решения, о безусловн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кончательном отказе от доведения до конца задуманного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чатого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2840" y="2997360"/>
            <a:ext cx="898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возможен на стадиях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иготовления к преступлению, неоко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нного покушения, оконченного покушения, если между дея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м и его последствиями имеется временной разрыв и имее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я возможность нарушения причинно-следственной связ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4760" y="4900680"/>
            <a:ext cx="908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ряду с исполнителем, добровольно отказавшимся от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я, не подлежат уголовной ответственности организатор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рекатель и пособник этого преступления( если способств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ли не доведению преступления до конца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WordArt 3"/>
          <p:cNvSpPr txBox="1"/>
          <p:nvPr/>
        </p:nvSpPr>
        <p:spPr>
          <a:xfrm>
            <a:off x="179280" y="836640"/>
            <a:ext cx="22320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участие 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еступлени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670480" y="765000"/>
            <a:ext cx="620820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мышленное совместное участие двух ил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олее лиц в совершении умышленного пр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757080" y="1486080"/>
            <a:ext cx="863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. 32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УК РФ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1360440" y="2349360"/>
            <a:ext cx="2203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организованна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групп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5651640" y="2421000"/>
            <a:ext cx="2203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еступно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ообще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6320" y="3086280"/>
            <a:ext cx="3658320" cy="1922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ойчивая группа лиц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ранее объединившая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овершения одно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нескольких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043600" y="3090960"/>
            <a:ext cx="3698280" cy="192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ппа лиц, предвари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но организовавшая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стойчивую иерарх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скую структуру для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 преступлен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611280" y="5229360"/>
            <a:ext cx="781056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изнаки организованной групп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09960" y="553716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личие двух или более лиц, устойчивость, объединение дл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я преступлений, отсутствие иерархической струк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р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539640" y="765000"/>
            <a:ext cx="7810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Факультативные признаки организованной групп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88280" y="1089000"/>
            <a:ext cx="88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оруженность, наличие коррумпированных связей, ориент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ванность на определенные виды преступлений, призн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ровских традиций, дисциплинированность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649440" y="2349360"/>
            <a:ext cx="78102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знаки преступного сообщества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9600" y="2813040"/>
            <a:ext cx="91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 менее пяти человек, или не менее двух групп, объедин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истематического совершения тяжких преступлений, устой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вость, сплоченность, наличие иерархической структуры, под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ржание преступных традиц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649440" y="4530600"/>
            <a:ext cx="78102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акультативные признаки преступного сообщества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17360" y="4797360"/>
            <a:ext cx="88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оруженность, наличие коррумпированных связей, жестка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циплина, монополизация преступной деятельности, стрем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е к расширению преступной деятельности, отмы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ных доходов, строгое распределение роле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2700360" y="620640"/>
            <a:ext cx="388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 соучаст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108000" y="162720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рганизатор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381760" y="907920"/>
            <a:ext cx="6601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организовавшее совершение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и руководившее его исполнением, либ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вшее организованную группу или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ое сообщество либо руководившее и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108000" y="320976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одстрекатель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383560" y="2662200"/>
            <a:ext cx="660744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склонившее другое лицо к  соверше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утем угрозы, уговора, шанта 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а,насил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WordArt 14"/>
          <p:cNvSpPr txBox="1"/>
          <p:nvPr/>
        </p:nvSpPr>
        <p:spPr>
          <a:xfrm>
            <a:off x="108000" y="429084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Исполнитель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2380320" y="4035600"/>
            <a:ext cx="6650280" cy="82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непосредственно участвовавшее в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ении пре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177840" y="5732640"/>
            <a:ext cx="20178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Impact"/>
              </a:rPr>
              <a:t>Пособник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2384640" y="5040360"/>
            <a:ext cx="6616440" cy="1557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содействовавшее совершению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я, и сокрытию  преступника, следов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ления или предметов добытых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м путе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908000" y="692280"/>
            <a:ext cx="540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ственность за соучаст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79440" y="1144440"/>
            <a:ext cx="84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ветственность соучастников определяется характером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ю фактического участия в преступлен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исполнители отвечают по одной стать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900000" y="2421000"/>
            <a:ext cx="74678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Прикосновенность к преступлению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4080" y="2781360"/>
            <a:ext cx="90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ние связанное с совершением преступлением другим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прямо и виновно не обуславливающее его соверш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1308240" y="3645000"/>
            <a:ext cx="26161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крыватель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5627520" y="3645000"/>
            <a:ext cx="26164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пуститель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01240" y="4032360"/>
            <a:ext cx="46490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ранее не обещанное сокрыт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а совершившего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, орудий, следов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и предметов, добытых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ым путе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аказан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на срок не более 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5003640" y="4017960"/>
            <a:ext cx="403236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воспрепятствование со-вершению преступления лицом, которое в силу слу-жебного долга или закона должно и могло это сде-лать. (Т.Е. применяется к должностным лицам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Обстоятельства, исключающие преступность дея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250920" y="765000"/>
            <a:ext cx="554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Необходимая оборо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5600" y="1217520"/>
            <a:ext cx="871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ояние лица, возникающее при защите личности и пра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оняющегося  лица или других лиц, охраняемых закон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есов общества и государства от общественно опасно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ягательства, если при этом не превышены пределы необ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димой обороны. Необходимая оборона должна соответств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ть степени опасн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WordArt 12"/>
          <p:cNvSpPr txBox="1"/>
          <p:nvPr/>
        </p:nvSpPr>
        <p:spPr>
          <a:xfrm>
            <a:off x="250920" y="3706920"/>
            <a:ext cx="85690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Причинение вреда при задержании лица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вершившего 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86840" y="4535640"/>
            <a:ext cx="887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мерное причинение вреда лицу, совершившему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е при его задержании для доставлении органам власти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ечения возможности совершения им новых преступлени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лицо уклоняется от задержания,вред причиняется в момен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ержания и в рамках закона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Обстоятельства, исключающие преступность дея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250920" y="692280"/>
            <a:ext cx="554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Крайняя необходимост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9600" y="1031760"/>
            <a:ext cx="90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ение вреда для устранения опасности, непосредств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угрожающей личности и правам данного лица или ины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есам общества и государства, охраняемым законом. (Вре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жен быть менее значительным, чем предотвращаемый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1400" y="2978280"/>
            <a:ext cx="90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стижение общественно полезной цели, сопряженное с вынуж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нным причинением вреда охраняемым законам интереса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179280" y="2637000"/>
            <a:ext cx="554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4.Обоснованный риск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WordArt 9"/>
          <p:cNvSpPr txBox="1"/>
          <p:nvPr/>
        </p:nvSpPr>
        <p:spPr>
          <a:xfrm>
            <a:off x="177840" y="3852720"/>
            <a:ext cx="7850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5.Исполнение приказа или распоряж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95040" y="4194000"/>
            <a:ext cx="90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ение вреда охраняемым законом интересам во исполн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 обязательных для лица приказов и распоряжений (Зако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 приказа, приказ не воспринимается как незаконный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23840" y="577548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ческое или психическое воздействие на человека, лишаю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ее его возможности руководить своими действия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WordArt 12"/>
          <p:cNvSpPr txBox="1"/>
          <p:nvPr/>
        </p:nvSpPr>
        <p:spPr>
          <a:xfrm>
            <a:off x="177840" y="5433840"/>
            <a:ext cx="8570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5.Физическое или психическое принужд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Рецидив преступлений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83760" y="765000"/>
            <a:ext cx="83188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 , имеющим судимость з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ее совершенное умышленное преступл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WordArt 12"/>
          <p:cNvSpPr txBox="1"/>
          <p:nvPr/>
        </p:nvSpPr>
        <p:spPr>
          <a:xfrm>
            <a:off x="2671920" y="1844640"/>
            <a:ext cx="38001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рецидива: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250920" y="22082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1.Общи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15200" y="2600280"/>
            <a:ext cx="89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любого преступления ранее судимым лицом, суд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сть с которого не снята и не погашен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WordArt 15"/>
          <p:cNvSpPr txBox="1"/>
          <p:nvPr/>
        </p:nvSpPr>
        <p:spPr>
          <a:xfrm>
            <a:off x="250920" y="3459240"/>
            <a:ext cx="40338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2.Специаль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3200" y="3852720"/>
            <a:ext cx="90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аналогичного преступления ранее судимым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имость с которого не снята и не погашен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WordArt 17"/>
          <p:cNvSpPr txBox="1"/>
          <p:nvPr/>
        </p:nvSpPr>
        <p:spPr>
          <a:xfrm>
            <a:off x="250920" y="47102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3.Просто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396000" y="510372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, ранее судимым один раз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WordArt 19"/>
          <p:cNvSpPr txBox="1"/>
          <p:nvPr/>
        </p:nvSpPr>
        <p:spPr>
          <a:xfrm>
            <a:off x="250920" y="55976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4.Слож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89280" y="5991120"/>
            <a:ext cx="90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, имеющим две или более суд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Рецидив преступлений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250920" y="623880"/>
            <a:ext cx="58338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5.Пенитенциар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258840" y="907920"/>
            <a:ext cx="87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любого преступления лицом, отбывающим нака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ие в виде лишения свобод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250920" y="1628640"/>
            <a:ext cx="69134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6.Особо опасный рецидив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16720" y="2133720"/>
            <a:ext cx="875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ПАСНЫЙ РЕЦИДИ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совершение преступления лицом осужденным два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совершение умышленного тяжкого преступления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ужденным ранее за совершение умышленного тяжкого пр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WordArt 13"/>
          <p:cNvSpPr txBox="1"/>
          <p:nvPr/>
        </p:nvSpPr>
        <p:spPr>
          <a:xfrm>
            <a:off x="2957400" y="1989000"/>
            <a:ext cx="3486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азновидности: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208080" y="3882960"/>
            <a:ext cx="902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СОБО ОПАСНЫЙ РЕЦИДИ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совершение преступления лицом осужденным три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совершение преступления лицом,осужденным ранее за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ение умышленного тяжкого преступления два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совершение преступления лицом, ране осужденным за умыш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ное тяжкое или особо тяжкое преступл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37440" y="6021360"/>
            <a:ext cx="88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 учитываются снятые, погашенные и судимости, соверш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ые в возрасте до 18 лет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3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.Понятие уголовной ответствен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.Стадии совершения преступ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.Соучастие в преступлен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4.Обсточтельства, исключающие преступность дея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.Рецидив преступ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179280" y="1557360"/>
            <a:ext cx="1893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а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ственност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2322360" y="930240"/>
            <a:ext cx="67309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усмотренное уголовно-правовой нормой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примененное к лицу вступившим в силу об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нительным приговором суда государственн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нудительное воздействие за совершенн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17"/>
          <p:cNvSpPr txBox="1"/>
          <p:nvPr/>
        </p:nvSpPr>
        <p:spPr>
          <a:xfrm>
            <a:off x="324000" y="299736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снование уголовной ответственност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93280" y="3357720"/>
            <a:ext cx="80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деяния, содержащего все признаки состава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(ст.8 УК РФ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WordArt 19"/>
          <p:cNvSpPr txBox="1"/>
          <p:nvPr/>
        </p:nvSpPr>
        <p:spPr>
          <a:xfrm>
            <a:off x="2340000" y="4221000"/>
            <a:ext cx="4495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остав 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8080" y="4529160"/>
            <a:ext cx="91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окупность объективных и субъективных признаков, оп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нных в уголовно-правовой норме, необходимых и достаточ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х для признания совершенного деяния в качестве конкре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го преступления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ключае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Объект, Объективную сторону, Субъект, Субъективную сторон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24000" y="119700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бъект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957760" y="801720"/>
            <a:ext cx="605268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уголовным законом- общес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е отношения, на которые посягае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324000" y="2709720"/>
            <a:ext cx="23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Объективная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сторона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60640" y="2232000"/>
            <a:ext cx="6080040" cy="1557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ешняя сторона преступления выраж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я в общественно опасном деянии, п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дствиях и причинно-следственной связ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 деянием и последствия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WordArt 12"/>
          <p:cNvSpPr txBox="1"/>
          <p:nvPr/>
        </p:nvSpPr>
        <p:spPr>
          <a:xfrm>
            <a:off x="324000" y="436104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Субъект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957400" y="3965400"/>
            <a:ext cx="6109200" cy="1557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ившее преступление физическ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меняемое лицо, достигшее к моменту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 преступления возраста с кот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го наступает уголовная ответствен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WordArt 16"/>
          <p:cNvSpPr txBox="1"/>
          <p:nvPr/>
        </p:nvSpPr>
        <p:spPr>
          <a:xfrm>
            <a:off x="468360" y="573408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ая ответственность наступает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13400" y="6211800"/>
            <a:ext cx="88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 общему правилу с 16 лет, по ряду преступлений – с с 14 ле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179280" y="623880"/>
            <a:ext cx="1552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 14 лет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15200" y="879480"/>
            <a:ext cx="8949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убийство(ст.105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причинение тяжкого вреда или вреда средн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яжести здоровью (ст.111,112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хищение человека(ст.126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знасилование(ст.131,13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ража(ст.156), грабеж(ст.161), разбой(ст.162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ымогательство(ст.163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правомерное завладение транспортным средством, без ц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 хищения(ст.166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уничтожение или повреждение имущества пр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ягчающих обстоятельствах (ст.167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терроризм(ст.205), захват заложника(ст.206), заведомо ложн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ние об акте терроризма(ст.207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хулиганство при отягчающих обстоятельствах(ст.213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хищение либо вымогательство наркотических или психотро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х средств(ст.229) и др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3132000" y="62064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меняемость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60920" y="1073160"/>
            <a:ext cx="897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меняемым признается лицо, которое на момент совершен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ственно опасного деяния, сознавало фактический харак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 своего деяния, общественный, его общественную опас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уководило и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2556000" y="2711520"/>
            <a:ext cx="38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Критерии вменяемости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755640" y="3284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Юридически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(психологический)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5580000" y="3284640"/>
            <a:ext cx="2830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едицински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(биологический)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52280" y="4309920"/>
            <a:ext cx="462456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арактеризуется 2 признаками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интеллектуальны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евозмож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 осознать характер свои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йстви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волево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еспособность к рук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дству своими действиями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932360" y="4292640"/>
            <a:ext cx="4137120" cy="2288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оническое психическое заболевание, временное психическое расстройство, слабоумие, иное болезнен-ное состояние психики,па-тологическое опьян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79280" y="119700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убъективна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орона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668320" y="1017720"/>
            <a:ext cx="626292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ическое отношение виновного к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емому им общественно опасному дея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46040" y="2313000"/>
            <a:ext cx="82296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одержание субъективной сторон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80520" y="278136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ина, мотив, це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179280" y="3913200"/>
            <a:ext cx="1152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1568520" y="3284640"/>
            <a:ext cx="73908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нательное, волевое отношение субъекта к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аемому им общественно опасному деянию и е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ледствиям, выраженное в форме умысла, или п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осторожн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WordArt 17"/>
          <p:cNvSpPr txBox="1"/>
          <p:nvPr/>
        </p:nvSpPr>
        <p:spPr>
          <a:xfrm>
            <a:off x="3059280" y="5246640"/>
            <a:ext cx="2885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формы вины: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22560" y="5734080"/>
            <a:ext cx="84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ямой, косвенный умыслы, неосторожность в виде легк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слия или небрежност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71280" y="148608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Моти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920" y="907920"/>
            <a:ext cx="65008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условленные определенными потребн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ями и интересами внутренние побужден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торые вызывают у лица решимость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ить преступление и которыми оно руковод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вовалось, при его совершен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34920" y="372744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Цел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2505960" y="3389400"/>
            <a:ext cx="6476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щественно  опасный  результат,к достиж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ю которого стремится лицо, при со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и пре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77640" y="4992840"/>
            <a:ext cx="844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тив и цель могут в ряде случаев указываться в качеств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позиции статьи Особенной части УК (ст.105-убийство 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ю сокрытия другого преступления),(ст.162-разбой с ц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ю хищенгия имущества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611280" y="620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иготов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к преступлению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8"/>
          <p:cNvSpPr txBox="1"/>
          <p:nvPr/>
        </p:nvSpPr>
        <p:spPr>
          <a:xfrm>
            <a:off x="3544920" y="620640"/>
            <a:ext cx="20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окушение 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1" name="WordArt 9"/>
          <p:cNvSpPr txBox="1"/>
          <p:nvPr/>
        </p:nvSpPr>
        <p:spPr>
          <a:xfrm>
            <a:off x="6300720" y="620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Оконченно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WordArt 10"/>
          <p:cNvSpPr txBox="1"/>
          <p:nvPr/>
        </p:nvSpPr>
        <p:spPr>
          <a:xfrm>
            <a:off x="108000" y="2352600"/>
            <a:ext cx="927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30,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.1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230480" y="1557360"/>
            <a:ext cx="773964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готовлением к преступлению признается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зготовление средств или орудий совершения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лений, приискание соучастников, сговор на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ние преступления, приспособление средств ил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рудий, умышленное создание условий для со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я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46240" y="3916440"/>
            <a:ext cx="86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Уголовная ответственность наступает только за приготов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ие к тяжкому или особо тяжкому преступлению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13"/>
          <p:cNvSpPr txBox="1"/>
          <p:nvPr/>
        </p:nvSpPr>
        <p:spPr>
          <a:xfrm>
            <a:off x="108000" y="5465880"/>
            <a:ext cx="927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т.30,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ч.3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172160" y="4797360"/>
            <a:ext cx="7818840" cy="1922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кушением на преступление признаются умышл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ые действия(бездействия) лица, направленные на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ршение преступления, если при этом оно не было д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дено до конца, по независящим от лица обстоятель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ва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Admin</cp:lastModifiedBy>
  <dcterms:modified xsi:type="dcterms:W3CDTF">2023-11-27T10:58:47Z</dcterms:modified>
  <cp:revision>4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